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9FB-0D59-441D-84FE-DEF4949D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3D0-30E9-4FDF-9378-724C747A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DF0-4807-46E7-92FF-A632A175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C97-4A9E-499C-981E-7842BC1D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1ED6-C229-4618-9B6E-647DE9CB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9C28-65B1-4D62-BD88-556049D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8621-41FF-4B73-8529-049DCE13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0E6E-F1AD-4EF7-8BA1-4E0F6AD2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C07D-A962-4E1E-BEC5-16316C88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4BCF-604B-4783-B84E-F3F5282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C70F-25E4-44B1-9DA8-6E5030C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A6B-A609-41B4-953D-F959DBE3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066F-E7C4-48C2-9759-B0BCFBFA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A7B9-A49F-4532-98E3-F8B891EA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B64A-424D-4CBD-A033-B86EBAD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4B39-CCAB-4A88-8347-CEB65839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CF22-651C-4FE5-9894-DDAA6EBF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58D-555C-4C7D-B4C7-2B8F96DB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98C-E61A-4EED-85B8-11A4FE4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4B0-E449-456A-8F50-2FBA36D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0C1-D548-4237-8F59-9C0CC39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E09-E922-4E0C-A14E-02ECC97D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3C7-E46D-4018-A48B-02154BF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154-6500-47B3-B172-D4C6A59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F65-0392-413C-82FA-0A0209C66F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DE64-3DB4-41B3-955B-9529692D0E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perlink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and Litera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5105520"/>
            <a:ext cx="91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Jason Niemiec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DUC 604 Reading in the Content Area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Holy Family University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r. Gros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9840" y="228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04.06.10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 Forced 265w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sat on a wall,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had a great fall.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ll the king's horses and all the king's men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ouldn't put Humpty together agai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8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9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ere did Humpty Dumpty Sit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Wall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Chair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In Dr. Gross’ class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e was Standing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o tried to put Humpty Dumpty back together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Mrs. Butterworth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Bonnie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ll the King’s Horses and Me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Nobody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9" name="Picture 2" descr="C:\Documents and Settings\Jason\Local Settings\Temporary Internet Files\Content.IE5\5G4B01GD\MCj04240640000[1].wmf"/>
          <p:cNvPicPr/>
          <p:nvPr/>
        </p:nvPicPr>
        <p:blipFill>
          <a:blip r:embed="rId1"/>
          <a:stretch/>
        </p:blipFill>
        <p:spPr>
          <a:xfrm>
            <a:off x="2286000" y="914400"/>
            <a:ext cx="4702320" cy="47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Hyperlin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yperlinks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 are a useful tool!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vide support for vocabulary challeng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mote higher cogni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3" descr="hyperlinks.jpg"/>
          <p:cNvPicPr/>
          <p:nvPr/>
        </p:nvPicPr>
        <p:blipFill>
          <a:blip r:embed="rId2"/>
          <a:stretch/>
        </p:blipFill>
        <p:spPr>
          <a:xfrm>
            <a:off x="29718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WebQu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tructured activities to search certain knowledge on the internet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ree to browse embedded link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Gives a sense of freedom, increasing motiva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imbed learning and organizational tool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Helps promote student condition and literacy performanc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and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Mone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ffective for school use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veryone can use technology fluentl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educators are supporter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reful with interne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Glitch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7" name="Picture 3" descr="C:\Documents and Settings\Jason\Local Settings\Temporary Internet Files\Content.IE5\ZT108DL5\MPj04429310000[1].jpg"/>
          <p:cNvPicPr/>
          <p:nvPr/>
        </p:nvPicPr>
        <p:blipFill>
          <a:blip r:embed="rId1"/>
          <a:stretch/>
        </p:blipFill>
        <p:spPr>
          <a:xfrm>
            <a:off x="5867280" y="3108240"/>
            <a:ext cx="2374920" cy="31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chnology can be a wonderful thing if properly used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Many resources availabl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reat way to get students involved in the classroom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pplications will continue to improv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blems with decrease as people debug and more technology is integrated into classroom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achers should incorporate Technolog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Help students prepare for the worl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mote outstanding educational standard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vide an exceptional education to our Students!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3" descr="C:\Documents and Settings\Jason\Local Settings\Temporary Internet Files\Content.IE5\RN2KTTQU\MCj04115420000[1].wmf"/>
          <p:cNvPicPr/>
          <p:nvPr/>
        </p:nvPicPr>
        <p:blipFill>
          <a:blip r:embed="rId1"/>
          <a:stretch/>
        </p:blipFill>
        <p:spPr>
          <a:xfrm>
            <a:off x="7162920" y="2971800"/>
            <a:ext cx="183816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Anderson, Rebecca &amp; Balajthy, Ernest (2009, March).  Stories About Struggling Readers and Technology.  The Reading Teacher, 62(6), 540-542.  doi:  10.1598/RT.62.6.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Ediger, Marlow (2002).  Computers, Technology, and the Reading Curriculum.  Retrieved from ERIC Database (ED 4468 442)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Husni, Husniza &amp; Jamaludin, Zulikha (2009, June).  ASR Technology for Children with Dyslexia: Enabling immediate intervention to support reading in Bahasa Melayu. US-China Education Review , 6(6), 64-70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Kolowich, Steve (2010, February 23).  News: Highlighting E-Readers - Inside Higher Ed.  Retrieved from http://www.insidehighered.com/layout/set/print/news/2010/02/23/ereaders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7, November).  Impact of SMART Board Technology: An Investigation of Sight Word Reading and Observational Learning.  Journal of Autism and Developmental Disorders, 37(10), 1869-82. doi: 10.1007/s10803-007-0361-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8).  Comparison of the Effects of SMART Board Technology and Flash Card Instruction on Sight Word Recognition and Observational Learning.  Journal of Special Education Technology, 23(1) p. 34-46.  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chweder Windy &amp; Wissick, Cheryl A.  (2008). Content Area Applications. Journal of Special Education Technology, 23(4), 53-61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okal, Laura &amp; Katz, Herb (2008, April).  Effects of Technology and Male Teachers on Boy’s Reading.  Australian Journal of Education, 52(1), 81-94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tepWare (2010).  Targeting Specific Challenges.  Ace Reader: Electrifying Your Mind.  Retrieved from http://www.acereader.com/education/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Vacca, Richard T. &amp; Vacca, Jo Anne L. (2008). Content Area Reading: Literacy and Learning Across the Curriculum.  New York: Pearson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Why should we use Technology?</a:t>
            </a:r>
            <a:endParaRPr b="0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Using a variety of technological can improve fluency and comprehens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Anderson and Balajthy, 2009; Ediger, 2002; 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Greater chance for retention if technology is used in the reading curriculum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number of students prefer learning with technology over alternative method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; 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Technology alone cannot have drastic effects on students, but when paired with proven teaching methods, it becomes a valuable resource for teacher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okal and Katz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ighly interactive and promotes motivatio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efore, Teacher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Diagram 3" descr=""/>
          <p:cNvPicPr/>
          <p:nvPr/>
        </p:nvPicPr>
        <p:blipFill>
          <a:blip r:embed="rId1"/>
          <a:stretch/>
        </p:blipFill>
        <p:spPr>
          <a:xfrm>
            <a:off x="378000" y="669960"/>
            <a:ext cx="8242200" cy="55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-19080" y="712800"/>
            <a:ext cx="9182160" cy="570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SMART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active whiteboard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Presents lesson on large 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creen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hile using sounds, videos, a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net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 a study by Mechling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Gast, and Krupa (2008)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oderately disabled students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ere able to learn words more effectively and with greater accuracy on the SMART Board than when taught using Flash Cards.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are able to match objects to printed words and vise versa more effective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akes learning materials “come alive” </a:t>
            </a:r>
            <a:r>
              <a:rPr b="0" i="1" lang="en-US" sz="1600" spc="-1" strike="noStrike">
                <a:solidFill>
                  <a:srgbClr val="969696"/>
                </a:solidFill>
                <a:latin typeface="Arial"/>
              </a:rPr>
              <a:t>(Williams and McClintic as cited in Mechling, Gast and Krupa, 2008, pg 44)</a:t>
            </a:r>
            <a:endParaRPr b="0" i="1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3" descr="SMART Board.jpg"/>
          <p:cNvPicPr/>
          <p:nvPr/>
        </p:nvPicPr>
        <p:blipFill>
          <a:blip r:embed="rId1"/>
          <a:stretch/>
        </p:blipFill>
        <p:spPr>
          <a:xfrm>
            <a:off x="4800600" y="533520"/>
            <a:ext cx="434340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Electronic 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-Books have electronic text displayed on a devis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lightly smaller than a standard textbook, but functions like a real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liminates students having to carry many large textbooks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Allows students to access reading assignments at any tim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Can’t forget text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Forfeit leaving a textbook behi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because it is too bulky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Longer and more difficult passages are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read more successful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Greenlee-Moore and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Smith as cited in Vacca and Vacca, 2008, pg 42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respond positively to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;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Mathews as cited in Vacca and Vacca, 2008, pg 24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8" name="Picture 3" descr="E-book.jpg"/>
          <p:cNvPicPr/>
          <p:nvPr/>
        </p:nvPicPr>
        <p:blipFill>
          <a:blip r:embed="rId1"/>
          <a:stretch/>
        </p:blipFill>
        <p:spPr>
          <a:xfrm>
            <a:off x="6053040" y="3124080"/>
            <a:ext cx="2826000" cy="332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Software: Automatic Speech Recognition</a:t>
            </a:r>
            <a:endParaRPr b="0" lang="en-US" sz="3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gram that uses a microphone to record voice of a student reading a passag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nalyses the speech in real time and gives instantaneous feedback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oints out errors immediatel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ives immediate suggestion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he sooner corrections are delivered, the more beneficial for student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Students do not need to manually call for help 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Eliminates errors going unnotice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Becoming a disadvantage to education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: ARS Cont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ARS.wmv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Software: Timed Reading Program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Example: “Ace Reader” by StepWare Inc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mproves fluency while maintaining comprehensio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s passage and answer question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ing rate and comprehension are charte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do eye exercises or forced reading rat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ey use a variety of techniques to accommodate different learning styles and disabilitie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tepWare, 2010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3:11Z</dcterms:created>
  <dc:creator>J </dc:creator>
  <dc:description/>
  <cp:keywords/>
  <dc:language>en-US</dc:language>
  <cp:lastModifiedBy>J </cp:lastModifiedBy>
  <dcterms:modified xsi:type="dcterms:W3CDTF">2010-05-04T23:30:57Z</dcterms:modified>
  <cp:revision>15</cp:revision>
  <dc:subject/>
  <dc:title>Technology and Litera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