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1.wmf" ContentType="image/x-wmf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641B-0083-43CA-B2B4-2E83C513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1185-5DCD-464E-BFFF-AFC85EE9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E10-07A0-4540-93C7-40AE10D6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1D0-518A-4923-BA27-762E846F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E367-DB84-4727-AF46-B5E70D7B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E1A7-1D9A-4ADE-84DE-5A2982FB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3BD8-081A-425C-9CEC-3378C742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76EC-3791-4EEB-AEB9-FC58F714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953D-D95C-487F-9468-6BE092E4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DCD3-BD36-4888-AE6A-C4AB6333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D56A-3548-49B4-9653-D6B15BC6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DAC1-4423-4637-9DA1-6416D68C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FBEB-02ED-4961-9BAA-58993D4E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516F-BAC1-4DEF-AEB9-15151AAB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93FF-B96A-4256-ADF4-F48DEC99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4C61-A624-4A8B-90E6-0F01F575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D656-03E2-487B-9E05-B39985F3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F39-A623-46FB-9D93-D98B58E8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25F-A08C-4F1C-933A-9CC9E779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AD4-BD6F-44F9-9DE3-65D47430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3497-A77B-4F5C-B210-E2FF85AA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9A6A-A126-4E88-A1E2-B704305D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B555-5CC4-4627-8992-7672CB55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51F-1F1D-45DA-BEED-9D1BC31A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3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2939-A061-4B1E-A8D6-84EFB47CCF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1DE2-7D70-4432-A135-5C9A1FD8E2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yperlink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chnology and Litera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600" y="5105520"/>
            <a:ext cx="9104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Jason Niemiec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EDUC 604 Reading in the Content Area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Holy Family University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Dr. Gross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59840" y="228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04.06.10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e: Forced 265wp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Humpty Dumpty sat on a wall,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Humpty Dumpty had a great fall.</a:t>
            </a:r>
            <a:br>
              <a:rPr sz="3200"/>
            </a:b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All the king's horses and all the king's men</a:t>
            </a:r>
            <a:br>
              <a:rPr sz="3200"/>
            </a:b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ouldn't put Humpty together again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7">
                                  <p:stCondLst>
                                    <p:cond delay="5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4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7">
                                  <p:stCondLst>
                                    <p:cond delay="5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8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27">
                                  <p:stCondLst>
                                    <p:cond delay="5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9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7">
                                  <p:stCondLst>
                                    <p:cond delay="5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Where did Humpty Dumpty Sit?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A Wall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A Chair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In Dr. Gross’ class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He was Standing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Who tried to put Humpty Dumpty back together?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Mrs. Butterworth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Bonnie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All the King’s Horses and Men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Nobody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9" name="Picture 2" descr="C:\Documents and Settings\Jason\Local Settings\Temporary Internet Files\Content.IE5\5G4B01GD\MCj04240640000[1].wmf"/>
          <p:cNvPicPr/>
          <p:nvPr/>
        </p:nvPicPr>
        <p:blipFill>
          <a:blip r:embed="rId1"/>
          <a:stretch/>
        </p:blipFill>
        <p:spPr>
          <a:xfrm>
            <a:off x="2286000" y="914400"/>
            <a:ext cx="4702320" cy="47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: Hyperlin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yperlinks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 are a useful tool!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Provide support for vocabulary challenge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Promote higher cognition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Vacca and Vacca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2" name="Picture 3" descr="hyperlinks.jpg"/>
          <p:cNvPicPr/>
          <p:nvPr/>
        </p:nvPicPr>
        <p:blipFill>
          <a:blip r:embed="rId2"/>
          <a:stretch/>
        </p:blipFill>
        <p:spPr>
          <a:xfrm>
            <a:off x="2971800" y="3352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: WebQue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tructured activities to search certain knowledge on the internet.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ree to browse embedded link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69696"/>
                </a:solidFill>
                <a:latin typeface="Arial"/>
              </a:rPr>
              <a:t>Gives a sense of freedom, increasing motivation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Schweder and Wissick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an imbed learning and organizational tool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69696"/>
                </a:solidFill>
                <a:latin typeface="Arial"/>
              </a:rPr>
              <a:t>Helps promote student condition and literacy performance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Schweder and Wissick, 2008; Vacca and Vacca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blems and Challeng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Money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Not effective for school use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Not everyone can use technology fluently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Not all educators are supporter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areful with interne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Glitchy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7" name="Picture 3" descr="C:\Documents and Settings\Jason\Local Settings\Temporary Internet Files\Content.IE5\ZT108DL5\MPj04429310000[1].jpg"/>
          <p:cNvPicPr/>
          <p:nvPr/>
        </p:nvPicPr>
        <p:blipFill>
          <a:blip r:embed="rId1"/>
          <a:stretch/>
        </p:blipFill>
        <p:spPr>
          <a:xfrm>
            <a:off x="5867280" y="3108240"/>
            <a:ext cx="2374920" cy="3124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all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Technology can be a wonderful thing if properly used.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Many resources available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Great way to get students involved in the classroom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Applications will continue to improve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Ediger, 2002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roblems with decrease as people debug and more technology is integrated into classrooms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Teachers should incorporate Technology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Help students prepare for the world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romote outstanding educational standards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rovide an exceptional education to our Students!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0" name="Picture 3" descr="C:\Documents and Settings\Jason\Local Settings\Temporary Internet Files\Content.IE5\RN2KTTQU\MCj04115420000[1].wmf"/>
          <p:cNvPicPr/>
          <p:nvPr/>
        </p:nvPicPr>
        <p:blipFill>
          <a:blip r:embed="rId1"/>
          <a:stretch/>
        </p:blipFill>
        <p:spPr>
          <a:xfrm>
            <a:off x="7162920" y="2971800"/>
            <a:ext cx="1838160" cy="1841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rks Cit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Anderson, Rebecca &amp; Balajthy, Ernest (2009, March).  Stories About Struggling Readers and Technology.  The Reading Teacher, 62(6), 540-542.  doi:  10.1598/RT.62.6.9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Ediger, Marlow (2002).  Computers, Technology, and the Reading Curriculum.  Retrieved from ERIC Database (ED 4468 442)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Husni, Husniza &amp; Jamaludin, Zulikha (2009, June).  ASR Technology for Children with Dyslexia: Enabling immediate intervention to support reading in Bahasa Melayu. US-China Education Review , 6(6), 64-70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Kolowich, Steve (2010, February 23).  News: Highlighting E-Readers - Inside Higher Ed.  Retrieved from http://www.insidehighered.com/layout/set/print/news/2010/02/23/ereaders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Mechling, Linda C., Gast, David L., &amp; Krupa, Kristin (2007, November).  Impact of SMART Board Technology: An Investigation of Sight Word Reading and Observational Learning.  Journal of Autism and Developmental Disorders, 37(10), 1869-82. doi: 10.1007/s10803-007-0361-9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Mechling, Linda C., Gast, David L., &amp; Krupa, Kristin (2008).  Comparison of the Effects of SMART Board Technology and Flash Card Instruction on Sight Word Recognition and Observational Learning.  Journal of Special Education Technology, 23(1) p. 34-46.  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Schweder Windy &amp; Wissick, Cheryl A.  (2008). Content Area Applications. Journal of Special Education Technology, 23(4), 53-61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 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Sokal, Laura &amp; Katz, Herb (2008, April).  Effects of Technology and Male Teachers on Boy’s Reading.  Australian Journal of Education, 52(1), 81-94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StepWare (2010).  Targeting Specific Challenges.  Ace Reader: Electrifying Your Mind.  Retrieved from http://www.acereader.com/education/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Vacca, Richard T. &amp; Vacca, Jo Anne L. (2008). Content Area Reading: Literacy and Learning Across the Curriculum.  New York: Pearson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Black"/>
              </a:rPr>
              <a:t>Why should we use Technology?</a:t>
            </a:r>
            <a:endParaRPr b="0" lang="en-US" sz="39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Using a variety of technological can improve fluency and comprehension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Anderson and Balajthy, 2009; Ediger, 2002; Schweder and Wissick, 2008; Vacca and Vacca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Greater chance for retention if technology is used in the reading curriculum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Ediger, 2002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A number of students prefer learning with technology over alternative methods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Mechling, Gast, and Krupa, 2007; Schweder and Wissick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Technology alone cannot have drastic effects on students, but when paired with proven teaching methods, it becomes a valuable resource for teachers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Sokal and Katz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Highly interactive and promotes motivation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refore, Teachers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0" name="Diagram 3" descr=""/>
          <p:cNvPicPr/>
          <p:nvPr/>
        </p:nvPicPr>
        <p:blipFill>
          <a:blip r:embed="rId1"/>
          <a:stretch/>
        </p:blipFill>
        <p:spPr>
          <a:xfrm>
            <a:off x="378000" y="669960"/>
            <a:ext cx="8242200" cy="559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chnology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-19080" y="712800"/>
            <a:ext cx="9182160" cy="5707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rdware: SMART Boar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Interactive whiteboard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Presents lesson on large 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screen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while using sounds, videos, and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internet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In a study by Mechling,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Gast, and Krupa (2008),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moderately disabled students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were able to learn words more effectively and with greater accuracy on the SMART Board than when taught using Flash Cards.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Students are able to match objects to printed words and vise versa more effectively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Mechling, Gast, and Krupa, 2007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Makes learning materials “come alive” </a:t>
            </a:r>
            <a:r>
              <a:rPr b="0" i="1" lang="en-US" sz="1600" spc="-1" strike="noStrike">
                <a:solidFill>
                  <a:srgbClr val="969696"/>
                </a:solidFill>
                <a:latin typeface="Arial"/>
              </a:rPr>
              <a:t>(Williams and McClintic as cited in Mechling, Gast and Krupa, 2008, pg 44)</a:t>
            </a:r>
            <a:endParaRPr b="0" i="1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5" name="Picture 3" descr="SMART Board.jpg"/>
          <p:cNvPicPr/>
          <p:nvPr/>
        </p:nvPicPr>
        <p:blipFill>
          <a:blip r:embed="rId1"/>
          <a:stretch/>
        </p:blipFill>
        <p:spPr>
          <a:xfrm>
            <a:off x="4800600" y="533520"/>
            <a:ext cx="4343400" cy="324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rdware: Electronic Boo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E-Books have electronic text displayed on a devise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Slightly smaller than a standard textbook, but functions like a real book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Eliminates students having to carry many large textbooks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Allows students to access reading assignments at any time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Can’t forget text book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Forfeit leaving a textbook behind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because it is too bulky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Longer and more difficult passages are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read more successfully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Greenlee-Moore and 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Smith as cited in Vacca and Vacca, 2008, pg 427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Students respond positively to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Ediger, 2002; 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Mathews as cited in Vacca and Vacca, 2008, pg 247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8" name="Picture 3" descr="E-book.jpg"/>
          <p:cNvPicPr/>
          <p:nvPr/>
        </p:nvPicPr>
        <p:blipFill>
          <a:blip r:embed="rId1"/>
          <a:stretch/>
        </p:blipFill>
        <p:spPr>
          <a:xfrm>
            <a:off x="6053040" y="3124080"/>
            <a:ext cx="2826000" cy="3322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Black"/>
              </a:rPr>
              <a:t>Software: Automatic Speech Recognition</a:t>
            </a:r>
            <a:endParaRPr b="0" lang="en-US" sz="3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rogram that uses a microphone to record voice of a student reading a passage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Analyses the speech in real time and gives instantaneous feedback.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oints out errors immediately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Gives immediate suggestions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The sooner corrections are delivered, the more beneficial for students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Husni and Jamaludin, 2009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Students do not need to manually call for help 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Husni and Jamaludin, 2009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Eliminates errors going unnoticed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Becoming a disadvantage to education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ftware: ARS Cont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ARS.wmv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Software: Timed Reading Program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Example: “Ace Reader” by StepWare Inc.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Improves fluency while maintaining comprehension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Reads passage and answer question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Reading rate and comprehension are charted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an do eye exercises or forced reading rate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ey use a variety of techniques to accommodate different learning styles and disabilities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StepWare, 2010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3:11Z</dcterms:created>
  <dc:creator>J </dc:creator>
  <dc:description/>
  <cp:keywords/>
  <dc:language>en-US</dc:language>
  <cp:lastModifiedBy>J </cp:lastModifiedBy>
  <dcterms:modified xsi:type="dcterms:W3CDTF">2010-05-04T23:30:57Z</dcterms:modified>
  <cp:revision>15</cp:revision>
  <dc:subject/>
  <dc:title>Technology and Literac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01033</vt:lpwstr>
  </property>
</Properties>
</file>